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3655-7158-4E65-ABDE-1DD957A21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6CF2-2604-4A48-B529-5E7B72AD7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C3B8-51F3-498C-BA6B-D7D512FD7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65D9-B6D5-4997-A892-CDBBFFBE9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39DC-C665-49C6-B62C-AD3A9277B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2785-7195-4F15-A527-87A9AD720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A19D-E84C-421A-A5C7-D7BBA6F88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3A91-630C-4E88-A9C6-ECD2E60FB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DA43-2E2A-4089-8EFB-A3954BC48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38A4-759C-4F44-885C-5DD667BC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CD7C-C3EA-4FF4-B3AA-60BE0FAF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327C-5AAF-4E7A-AB53-BCA241A5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6A704-7469-47FD-B4C1-48579F6AE85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evezetés a programozásba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. Szokásos hibá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Nem teljesen tisztázott felad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Nem egyértelmű fogalmak (pl. második legnagyobb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Félrevezető szöveges leírá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Áttekinthetetlen megfogalmazá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A hogyanról szól a mit helyet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lgoritmusok kódolása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. Az algoritmus leírás finomításának mélysége (a programíró felkészültségének függvényébe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Teljesen részle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Programozási tételek szintjéig (pl. Keresés(N,X,páros,VAN,S)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Modulspecifikáció szintjéi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I. A programozási nyelv választásának szempontjai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1. Lehetősé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2. A programkészítő ismeri-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3. Megbízhatóság, dokumentáltsá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4. Könnyű alkalmazhatóság (megfelelő nyelvi eszközö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5. Hatékonysá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6. Modularitás, más nyelvű részek lehetnek-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7. Hordozhatóság, nyelvi állandósá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II. Kódolási szabályok (tetszőleges nyelvre)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1. Értékadás (struktúra, részstruktúra, párhuzam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2. Beolvasás (kérdés, ellenőrzés, struktúra beolvasás), kiírás (pozícionálás, formátum, struktúra kiírá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3. Elágazások (mi van, ha nincs különben-á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4. Ciklusok (ciklusok egymásba alakítás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5. Eljárások, függvények (mi van, ha nincs paraméter; függvén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V. Program transzformáció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1. Nem megengedett elágazás feltételek (logikai változó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2. Nem megengedett ciklusfeltételek (logikai változó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3. Szimmetrikus logikai művelet a ciklusfeltételben (típusbővítés, feltétel kiemelés, lé­pésszám csökkenté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4. Nem megengedett párhuzamos értékadás (segédváltozó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5. Szekvencia két tagjának felcserélése (feltétele: függetlensé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6. Ciklusváltozó növelése és ciklusmag felcserélése (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7. Nem megengedett sokirányú elágazás (elseif szerkeze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8. Függvény helyettesítése változóval (ha többször kellene kiszámolni az értéké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9. Nem megengedett függvényérték típus (eljárássá alakítá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ogramozási nyelvek osztályozása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I. Amatőr és professzionális programozási nyelv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II. Emberközelsé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III. Számítási modellek (az az absztrakt modell, ami alapján az algoritmusokat végre kell hajtan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. Amatőr és professzionális programozási nyelvek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atő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aktivit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yors nyelvi fejlőd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k nyelvi el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yszerű programszerkez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iális gépi tulajdonság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Professzionál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modularit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stabil nyelv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kevés nyelvi el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sok lehetősé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gépfüggetlenség, átvihetősé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I. Emberközelsé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acsonyszintű nyelv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nden lehetőség (HW,SW) kihasználhat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zimbolikus utasítás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zonosít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ímkené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kró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rektívá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athelyfoglalás, definiálá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épi nyelv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nden lehetőség (HW,SW) kihasználhat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ó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móriací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móriací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I. Emberközelsé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agasszintű nyelv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feladatorientál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Változó=tartomá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kifejezés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típ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lágazás, cikl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ljár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paraméterez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acsonyszintű nyelv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géporientál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áltozó=kezdőcí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ltételes vezérlésátad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járáshívás, visszatér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00"/>
                </a:solidFill>
                <a:latin typeface="Arial"/>
              </a:rPr>
              <a:t>III. Számítási modellek </a:t>
            </a:r>
            <a:br>
              <a:rPr sz="2800"/>
            </a:br>
            <a:r>
              <a:rPr b="1" lang="hu-HU" sz="2800" spc="-1" strike="noStrike">
                <a:solidFill>
                  <a:srgbClr val="ffff00"/>
                </a:solidFill>
                <a:latin typeface="Arial"/>
              </a:rPr>
              <a:t>(az az absztrakt modell, ami alapján az algoritmusokat végre kell hajtani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. Neumann-elvű nyelvek     ( Neumann-elvű számítógé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1. Elképzelések, tulajdonság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memória, címezhető (sorszámmal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a program és az adatok a memóriában vanna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a végrehajtás memóriaállapotok sorozata, állapottér (adatok tere), koordináták, programfüggvény: állapottér</a:t>
            </a:r>
            <a:r>
              <a:rPr b="1" lang="hu-HU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állapottér, konkrét állapot=pont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a program leírása szöveg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2. Következmény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van változó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van értékadá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utasítások ismételt végrehajtása lehetséges (ciklus, GOT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elágazás (GOT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beolvasás: memória másolás (ld. C64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kiírás: memória másolás (képernyő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3. A jelenlegi számítógépek ilyenek, s ezért a nyelvek jelentős többsége i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. A problémamegoldás lépései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tapélda: házépít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 az, ami látszik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 az, ami ténylegesen mögötte va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Igényfelmérés (szempontok: család mérete, elképzelése, pénz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Tervezés (alaprajz, anyagigén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Szervezés (ütemterv vagy vállalkozó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 Építkezés (anyagbeszerzés, kivitelezé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 Használatba vétel (szemrevételezés - szépség, kipróbálás - jósá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. Beköltözés, bentlakás (módosítgatás, újabb hibák, ..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00"/>
                </a:solidFill>
                <a:latin typeface="Arial"/>
              </a:rPr>
              <a:t>III. Számítási modellek </a:t>
            </a:r>
            <a:br>
              <a:rPr sz="2800"/>
            </a:br>
            <a:r>
              <a:rPr b="1" lang="hu-HU" sz="2800" spc="-1" strike="noStrike">
                <a:solidFill>
                  <a:srgbClr val="ffff00"/>
                </a:solidFill>
                <a:latin typeface="Arial"/>
              </a:rPr>
              <a:t>(az az absztrakt modell, ami alapján az algoritmusokat végre kell hajtani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B. Automata-elvű nyelvek    (</a:t>
            </a:r>
            <a:r>
              <a:rPr b="1" lang="hu-HU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ipari robot, pl. festőautomata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1. Elképzelések, tulajdonság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az adatok állapotok, illetve bemenetek – fix felosztású memória (pl. festőkar he­lye, fest-e, ...): állapotté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a végrehajtás egyszerű állapotok soroza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a program egy állapotátmenet-függvén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a program elkülönül az állapotoktó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tevékenységorientáltság (állapotváltoztatá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2. Következménye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az utasítások általában egy állapotkomponenst változtatna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változó, értékadás nincs (csak névvel ellátott állapotkomponensek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csak primitív (állapot-, vagy paraméter- vagy érzékelőállapot-függő) ciklusok ír­ható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állapot-, vagy paraméter vagy érzékelőállapot-függő elágazá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utasítások paraméterezhetőe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beolvasás: paraméterezés, állapotlekérdezés, érzékelő állapo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kiírás: állapotváltozás nyo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párhuzamossá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3. Példa: LOGO grafikai része, ipari robotok nyelv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00"/>
                </a:solidFill>
                <a:latin typeface="Arial"/>
              </a:rPr>
              <a:t>III. Számítási modellek </a:t>
            </a:r>
            <a:br>
              <a:rPr sz="2800"/>
            </a:br>
            <a:r>
              <a:rPr b="1" lang="hu-HU" sz="2800" spc="-1" strike="noStrike">
                <a:solidFill>
                  <a:srgbClr val="ffff00"/>
                </a:solidFill>
                <a:latin typeface="Arial"/>
              </a:rPr>
              <a:t>(az az absztrakt modell, ami alapján az algoritmusokat végre kell hajtani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. Funkcionális nyelvek     ( analízi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 Elképzelések, tulajdonság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 program egy függvén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emória ninc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 végrehajtás függvénykifejté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rős matematikai kidolgozottsá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 Következmény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áltozó, értékadás ninc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konstansok = konstans függvénye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üggvénykompozíció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iklus nincs, helyette rekurzív függvények lehet ciklus, ha léteznek a programon értelmezett függvénye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eltételes függvénye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üggvényargumentum v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eolvasás: speciális függvén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kiírás: a függvény eredménye, esetleg speciális (mellékhatással rendelkező függ­vény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 Példa: LOGO szövegkezelő része, (FORTH,) LI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00"/>
                </a:solidFill>
                <a:latin typeface="Arial"/>
              </a:rPr>
              <a:t>III. Számítási modellek </a:t>
            </a:r>
            <a:br>
              <a:rPr sz="2800"/>
            </a:br>
            <a:r>
              <a:rPr b="1" lang="hu-HU" sz="2800" spc="-1" strike="noStrike">
                <a:solidFill>
                  <a:srgbClr val="ffff00"/>
                </a:solidFill>
                <a:latin typeface="Arial"/>
              </a:rPr>
              <a:t>(az az absztrakt modell, ami alapján az algoritmusokat végre kell hajtani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D. Logikai nyelvek          ( matematikai logika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1. Elképzelések, tulajdonság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a program egy logikai formula (általában nem lehet teljesen általános formula: megszorítások!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a program végrehajtása a logikai formula kiértékelé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erős matematikai kidolgozottsá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a formulákban szerepelhetnek paramétere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a program és az adatok nem különülnek el (minden adat egy azonosan igaz for­mula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Példa: szülője, nagyszülőj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2. Következménye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nincs változó, értékadá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szekvencia = és, elágazás = va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ciklus nincs, helyette rekurzív formulá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vannak feltételes kifejezése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elemi utasítás: mintailleszté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beolvasás, kiírás: mintailleszté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lehetőség új formulák létrehozására (új utasítá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kiértékelési algoritmus: backtrack csak a MIT? kell leírn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3. Példa: PROLO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00"/>
                </a:solidFill>
                <a:latin typeface="Arial"/>
              </a:rPr>
              <a:t>III. Számítási modellek </a:t>
            </a:r>
            <a:br>
              <a:rPr sz="2800"/>
            </a:br>
            <a:r>
              <a:rPr b="1" lang="hu-HU" sz="2800" spc="-1" strike="noStrike">
                <a:solidFill>
                  <a:srgbClr val="ffff00"/>
                </a:solidFill>
                <a:latin typeface="Arial"/>
              </a:rPr>
              <a:t>(az az absztrakt modell, ami alapján az algoritmusokat végre kell hajtani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E. Adatfolyam nyelvek           ( csővezeték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F. Objektumelvű nyelvek    ( emberek csoportja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1. Elképzelések, tulajdonságo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objektum = szerkezet + eljárások</a:t>
            </a: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12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 típ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az adat és a kód nem választható el egymástó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(adatdefiniáláskor jönnek létre az őt kezelő eljárások)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objektumtípus=osztály </a:t>
            </a:r>
            <a:r>
              <a:rPr b="1" lang="hu-HU" sz="12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 típust megvalósító modu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hivatkozás: objektumtípusú változó.eljárásnév, objektumtípusú változó.mezőné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az objektumok üzenetekkel (eljárások) kommunikálnak egymással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eseményvezérelt programozás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öröklés: az új objektum egy másik objektum összes jellemzőjével rendelkezik, il­letve ehhez újakat is definiálhat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típusszármaztatás (láthatósági kérdések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az örökléssel objektumok hierarchikus rendszere alakítható ki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csak értékszerinti paraméterátadás lehet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dinamikus objektumokhoz (mutató) meg kell adni egy konstruktort és egy dest­ruktor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2. Következménye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az objektumok (tárgyak) önálló életet élő dolgo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az eljáráshívás a legfontosabb fogal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olyan objektumnak lehet értéket adni, amely ilyen eljárást közöl magáró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3. Példa: Turbo Pascal 6.0, Visual BASIC, Smalltal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ffff00"/>
                </a:solidFill>
                <a:latin typeface="Arial"/>
              </a:rPr>
              <a:t>Neumann elv</a:t>
            </a:r>
            <a:r>
              <a:rPr b="1" lang="hu-HU" sz="4400" spc="-1" strike="noStrike">
                <a:solidFill>
                  <a:srgbClr val="ffff00"/>
                </a:solidFill>
                <a:latin typeface="Arial"/>
              </a:rPr>
              <a:t>ű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nyelvek elemei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ffffff"/>
                </a:solidFill>
                <a:latin typeface="Arial"/>
              </a:rPr>
              <a:t>I. Adat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ffff"/>
                </a:solidFill>
                <a:latin typeface="Arial"/>
              </a:rPr>
              <a:t>1. Elemi adattípuso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(integer, char, real, boolean, complex, byte, double precision, long­integer, wor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ffff"/>
                </a:solidFill>
                <a:latin typeface="Arial"/>
              </a:rPr>
              <a:t>2. Felsorolá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(konstansok átlapolhatók-e vagy se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ffff"/>
                </a:solidFill>
                <a:latin typeface="Arial"/>
              </a:rPr>
              <a:t>3. Altípu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(részhalmaz kijelölés logikai formulával, részintervallu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ffff"/>
                </a:solidFill>
                <a:latin typeface="Arial"/>
              </a:rPr>
              <a:t>4. Származtatott típu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(azonos értékhalmaz, de nem keverhet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ő</a:t>
            </a: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eumann elvű nyelvek elemei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5. Mutat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beépített típu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POKE cím,by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6. Összetett adattípusok (tömb, szöveg, rekord, halmaz, unió, fi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rekord: szelektorok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400" spc="-1" strike="noStrike">
                <a:solidFill>
                  <a:srgbClr val="ffffff"/>
                </a:solidFill>
                <a:latin typeface="Arial"/>
              </a:rPr>
              <a:t>Pascal,ELAN</a:t>
            </a:r>
            <a:r>
              <a:rPr b="1" lang="da-DK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400" spc="-1" strike="noStrike">
                <a:solidFill>
                  <a:srgbClr val="ffffff"/>
                </a:solidFill>
                <a:latin typeface="Arial"/>
              </a:rPr>
              <a:t>– változónév.mezõnév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400" spc="-1" strike="noStrike">
                <a:solidFill>
                  <a:srgbClr val="ffffff"/>
                </a:solidFill>
                <a:latin typeface="Arial"/>
              </a:rPr>
              <a:t>COBOL</a:t>
            </a:r>
            <a:r>
              <a:rPr b="1" lang="da-DK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400" spc="-1" strike="noStrike">
                <a:solidFill>
                  <a:srgbClr val="ffffff"/>
                </a:solidFill>
                <a:latin typeface="Arial"/>
              </a:rPr>
              <a:t>– mezõnév IN változónév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konstrukciós mûvelet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400" spc="-1" strike="noStrike">
                <a:solidFill>
                  <a:srgbClr val="ffffff"/>
                </a:solidFill>
                <a:latin typeface="Arial"/>
              </a:rPr>
              <a:t>ELAN</a:t>
            </a:r>
            <a:r>
              <a:rPr b="1" lang="da-DK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400" spc="-1" strike="noStrike">
                <a:solidFill>
                  <a:srgbClr val="ffffff"/>
                </a:solidFill>
                <a:latin typeface="Arial"/>
              </a:rPr>
              <a:t>– [mezõ,mezõ,...]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unió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400" spc="-1" strike="noStrike">
                <a:solidFill>
                  <a:srgbClr val="ffffff"/>
                </a:solidFill>
                <a:latin typeface="Arial"/>
              </a:rPr>
              <a:t>Pascal</a:t>
            </a:r>
            <a:r>
              <a:rPr b="1" lang="da-DK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400" spc="-1" strike="noStrike">
                <a:solidFill>
                  <a:srgbClr val="ffffff"/>
                </a:solidFill>
                <a:latin typeface="Arial"/>
              </a:rPr>
              <a:t>– C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400" spc="-1" strike="noStrike">
                <a:solidFill>
                  <a:srgbClr val="ffffff"/>
                </a:solidFill>
                <a:latin typeface="Arial"/>
              </a:rPr>
              <a:t>COBOL</a:t>
            </a:r>
            <a:r>
              <a:rPr b="1" lang="da-DK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400" spc="-1" strike="noStrike">
                <a:solidFill>
                  <a:srgbClr val="ffffff"/>
                </a:solidFill>
                <a:latin typeface="Arial"/>
              </a:rPr>
              <a:t>– REDEFI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400" spc="-1" strike="noStrike">
                <a:solidFill>
                  <a:srgbClr val="ffffff"/>
                </a:solidFill>
                <a:latin typeface="Arial"/>
              </a:rPr>
              <a:t>FORTRAN</a:t>
            </a:r>
            <a:r>
              <a:rPr b="1" lang="da-DK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400" spc="-1" strike="noStrike">
                <a:solidFill>
                  <a:srgbClr val="ffffff"/>
                </a:solidFill>
                <a:latin typeface="Arial"/>
              </a:rPr>
              <a:t>– EQUIVALEN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tömbindexek: 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általában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–  &gt;=0 (1) és egés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400" spc="-1" strike="noStrike">
                <a:solidFill>
                  <a:srgbClr val="ffffff"/>
                </a:solidFill>
                <a:latin typeface="Arial"/>
              </a:rPr>
              <a:t>Pascal</a:t>
            </a:r>
            <a:r>
              <a:rPr b="1" lang="da-DK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400" spc="-1" strike="noStrike">
                <a:solidFill>
                  <a:srgbClr val="ffffff"/>
                </a:solidFill>
                <a:latin typeface="Arial"/>
              </a:rPr>
              <a:t>–  véges típu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konstrukciós mûvelet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400" spc="-1" strike="noStrike">
                <a:solidFill>
                  <a:srgbClr val="ffffff"/>
                </a:solidFill>
                <a:latin typeface="Arial"/>
              </a:rPr>
              <a:t>ELAN1</a:t>
            </a:r>
            <a:r>
              <a:rPr b="1" lang="da-DK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400" spc="-1" strike="noStrike">
                <a:solidFill>
                  <a:srgbClr val="ffffff"/>
                </a:solidFill>
                <a:latin typeface="Arial"/>
              </a:rPr>
              <a:t>– [elem,elem,...]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400" spc="-1" strike="noStrike">
                <a:solidFill>
                  <a:srgbClr val="ffffff"/>
                </a:solidFill>
                <a:latin typeface="Arial"/>
              </a:rPr>
              <a:t>ALGOL68,Ada</a:t>
            </a:r>
            <a:r>
              <a:rPr b="1" lang="da-DK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400" spc="-1" strike="noStrike">
                <a:solidFill>
                  <a:srgbClr val="ffffff"/>
                </a:solidFill>
                <a:latin typeface="Arial"/>
              </a:rPr>
              <a:t>– résztömb müvelete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ffff00"/>
                </a:solidFill>
                <a:latin typeface="Arial"/>
              </a:rPr>
              <a:t>II. Utasításo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ffff"/>
                </a:solidFill>
                <a:latin typeface="Arial"/>
              </a:rPr>
              <a:t>1. Értékad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értékmásolás: minden változóhoz más memóriac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értékmegosztás: minden értékhez más memóriac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Többszörös értékadás (pl. C: A=B=C,PL/I, FORTRA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Párhuzamos értékadás (pl. A,B:=B,A, ld. Z80: EX DE,HL, CL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Fejl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ő</a:t>
            </a: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dés: tetsz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ő</a:t>
            </a: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leges (típusú) változó, konstruktor (kivétel sokszor: fi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Feltételes kifejezés (Pl. ALGOL60, ELAN: A:=if X&lt;Y then Y else X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Feltételes értékadás (Pl. ALGOL68: if A&lt;B then A else B :=X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00"/>
                </a:solidFill>
                <a:latin typeface="Arial"/>
              </a:rPr>
              <a:t>2. Elágazás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if then el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c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elágazás záró utasÍtás: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F77,ELAN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– ENDI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ALGOL68,ELAN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– F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"csellengõ else„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Ada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– ELSEI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ELAN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– ELI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a feltételnek lehet mellékhatá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sokirányu elágazás: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Pascal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– C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FORTRAN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– kiszámitott GO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BASIC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– 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ELAN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– SEL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nemdeterminisztikus elágazá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i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when A&lt;=B then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when A&gt;=B then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endi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nemszimmetrikus logikai mûveletek (optimalizált végrehajtás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Modula-2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– and, 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Ada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– and then, or el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00"/>
                </a:solidFill>
                <a:latin typeface="Arial"/>
              </a:rPr>
              <a:t>3. Ciklu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F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WHILE bentmaradás feltétele DO ciklusma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REPEAT ciklusmag UNTIL kilépés feltéte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n-s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Ciklusvég:   ENDDO, OD, ENDWHILE, ENDF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Felsorolás:  ALGOL60: for i:=2,3,5,7,11 do utasitá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Pascal: absztrakt felsorolástíp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Kilépés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C:</a:t>
            </a: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continue</a:t>
            </a: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– goto ciklusvé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break</a:t>
            </a: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– goto ciklusvég mögé (ki a ciklusbó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Modula-2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exit</a:t>
            </a: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– goto a ciklusvég mögé (ki a ciklusbó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Ciklusváltozó:</a:t>
            </a: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általában</a:t>
            </a: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– egész, néha való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Pascal</a:t>
            </a: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– diszkrét típ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Ada</a:t>
            </a: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– a ciklusra lokál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ALGOL60</a:t>
            </a: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– tömbelem is leh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ffff00"/>
                </a:solidFill>
                <a:latin typeface="Arial"/>
              </a:rPr>
              <a:t>4. Input-outpu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Ninc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ALGOL6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Terminá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írás, olvasá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pozícionálás + egyebek (ESC-szekvenciák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F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nyitás, zárás, írás, olvasás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text, szekvenciális, indexelt, direk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file vége kezelés:</a:t>
            </a: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Pascal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– EOF függvén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FORTRAN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– END=cimke (olvasá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BASIC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– Statusz változó, ONERRORGO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FORMAT, USING, PIC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Nincs, hanem PREDEFINIT mûveletek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Modula-2, ELAN, Ad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Milyen típusú adat írható, olvasható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elemi típu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saját (elemi) típu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tetszõleges típu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I. A programkészítés folyamata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1. Specifikálás (miből?, mit?)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specifikáci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2. Tervezés (mivel?, hogyan?)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adat- + algoritmus-leírá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3. Kódolás (a gép hogyan)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kód (reprezentáció+ implementáció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4. Tesztelés (hibás?)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hibalista (diagnózi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5. Hibakeresés (hol a hiba?)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hibahely, -ok (terápi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6. Hibajavítás (hogyan jó?)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helyes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7. Minőségvizsgálat, hatékonyság (jobbítható?) 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jó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8. Dokumentálás (hogyan működik, használható?) 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használható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9. Használat, karbantartás (még mindig jó?)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évelő (időtálló)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ffff00"/>
                </a:solidFill>
                <a:latin typeface="Arial"/>
              </a:rPr>
              <a:t>5. Eljárás, függvény, operátor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Elkülönítés a program többi részétõ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Paraméterátadás (cím, név, érték, eredmény szerint), meg lehet mondani, milyen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Pascal</a:t>
            </a: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– var, érté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ELAN</a:t>
            </a: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– VAR, CON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CDL2,Ada</a:t>
            </a: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– i, o, i/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Problémái: álnév, globális változó használa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Számuk, azonosításuk módja: sorrend szerint, név szeri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Paraméterek feltételezett érték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Lokális változó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BASIC: GOSUB sorszám, nincs fizikai vége és kezde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ELAN: finomítás:  nincs paraméter, nincs lokális változ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Függvény:</a:t>
            </a: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BASIC</a:t>
            </a: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– DEFF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FORTRAN</a:t>
            </a: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– utasításfüggvén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Pascal, E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Operátor:</a:t>
            </a: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E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Mellékhatás problémáj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A függvény értéktípusa sokszor elemi típusokra korlátozott (kivétel: ELAN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Paraméter lehet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változó</a:t>
            </a: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(Pascal, ELAN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függvény, eljárás</a:t>
            </a: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(Pascal, ELAN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típus</a:t>
            </a: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(Ad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6. Modul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Modula-2:</a:t>
            </a: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Specifikációs modu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Implementációs modu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EXPORT, IMPORT, eljárások elrejté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ELAN:</a:t>
            </a: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PACKET név DEFINES eljárás és típusnev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Turbo Pascal:</a:t>
            </a: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7. Specifikáció a programszövegb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Euclid:</a:t>
            </a: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Proc ...</a:t>
            </a:r>
            <a:br>
              <a:rPr sz="2000"/>
            </a:b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Pre ...</a:t>
            </a:r>
            <a:br>
              <a:rPr sz="2000"/>
            </a:b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Post ...</a:t>
            </a:r>
            <a:br>
              <a:rPr sz="2000"/>
            </a:b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begin</a:t>
            </a:r>
            <a:br>
              <a:rPr sz="2000"/>
            </a:b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...</a:t>
            </a:r>
            <a:br>
              <a:rPr sz="2000"/>
            </a:b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en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rogramozási tételek: sorozathoz érték rendelése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. másol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üggvénytáblázat, nagybetű-kisbetű konverzió, szótagok hangrendje, vektorok össze­adás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sorozatszámítá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i bevétel, kiadás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évi összeg, autóversenyző körönkénti ideje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átlagkör, N!, szakkörök névsora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zakkörre járók névsora, szavak sorozata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onda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eldönté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ím-e, hónapnév-e, bukott-e, van-e sziget, monoton növekvő-e, kitűnő-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rogramozási tételek: sorozathoz érték rendelés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kiválasztá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i bevétel, kiadás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lyik volt pozitív, 1 év hőmérséklete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ikor nem fa­gyott, hónapnév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orszám, legkisebb oszt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(lineáris) keresé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i bevétel, kiadás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lyik volt negatív, menetrend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vonat átszállás nélkül, va­lódi osztó, horgászok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10 kg-osnál nagyobb halat fogó, bajnokság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indent nyerő csapa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rogramozási tételek: sorozathoz érték rendelés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megszámolá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saládi jövedelmek, létszámok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étminimum alattiak száma, osztók száma, ma­gánhangzók száma, bajnokság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50% felett van-e a többsé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. maximum kiválaszt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i bevétel, kiadás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egjobb hónap, legrosszabb hónap, kórházi betegek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eglá­zasabb, legmelegebb nap, névsor első ember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. kiválogatá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zemélynyilvántartás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0 évnél fiatalabb lányok, N osztói, magas hangrendű sza­vak, menetrend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ikor vannak vonatok, jeles átlagú tanulók.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gramozási tételek: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orozat(ok)hoz sorozat(ok) rendelése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1. szétválogatá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játékok </a:t>
            </a:r>
            <a:r>
              <a:rPr b="1" lang="hu-HU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típusok szerint (autók, babák, társasjátékok, kártyák), fiúk–lányok, páro­sak–páratlanok, lázasak–egészségesek, jeles–jó–közepes–elégséges–elégtelenek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2. metszet (közös elemek kiválogatás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közös prímosztók, madármegfigyelés </a:t>
            </a:r>
            <a:r>
              <a:rPr b="1" lang="hu-HU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nem költözők, horgászok halféléi </a:t>
            </a:r>
            <a:r>
              <a:rPr b="1" lang="hu-HU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me­lyiket fogta mindenki, emberek szabad órái </a:t>
            </a:r>
            <a:r>
              <a:rPr b="1" lang="hu-HU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mindenki ráé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gyesítés (unió: legalább az egyikben előforduló elemek kiválogatása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lkkt prímtényezői, emberek szabad órái </a:t>
            </a:r>
            <a:r>
              <a:rPr b="1" lang="hu-HU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valaki ráér, horgászok halféléi </a:t>
            </a:r>
            <a:r>
              <a:rPr b="1" lang="hu-HU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mi­lyen halak vanna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4. összefuttatás (rendezettek uniója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fiúk, lányok névsora </a:t>
            </a:r>
            <a:r>
              <a:rPr b="1" lang="hu-HU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osztálynévsor, osztálynévsorok </a:t>
            </a:r>
            <a:r>
              <a:rPr b="1" lang="hu-HU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iskolanévsor, szakkör­névsorok </a:t>
            </a:r>
            <a:r>
              <a:rPr b="1" lang="hu-HU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szakkörre járók névsora, időfutamok eredménye </a:t>
            </a:r>
            <a:r>
              <a:rPr b="1" lang="hu-HU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végeredmény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rogramozási tételek: elemi rendezések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egyszerű cserés rendezé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minimum kiválasztásos rendezé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 buborékos rendezé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ogramozási tételek: keresések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Lineáris keresé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Logaritmikus keresé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Visszalépéses keresés (backtrack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. Algoritmusok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Utcai telefon használata: az algoritmus fogalma (mi algoritmus és mi nem a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végrehajtható (van hozzá végrehajtó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lépésenként hajtható vég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 lépések maguk is algoritmus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pontosan definiált, adott végrehajtási sorrend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egy folyamat véges hosszúságú, időben esetleg végtelen leírá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Szörpautomata használat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egymásutáni végrehajtás, ismétlés (elöltesztelő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párhuzamosság, nemdeterminisztikussá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véges-végtelen ismétlé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választás 2-ből, többő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választás egyből, ismétlés (hátultesztelő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választás nemdeterminisztikus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ismétlés (számlálás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nemdeterminisztikussá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I. Adato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zódavíz készíté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mi és összetett adat (patron, víz; szif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menő, kimenő, belső adat (patron, víz; szifon; szódavíz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nstans, változó (fej; patron, szif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tok és algoritmikus szerkezetek kapcsol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kt szorza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—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zekven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ó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—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ágaz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kasá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—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klus, rekurzi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pecifikálá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I. Része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1. Bemenő adatok (értékalmaz, mértékegység)+ összefüggéseik (előfeltéte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2. Eredmények + kiszámítási szabályuk (utófeltéte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3. A megoldással szembeni követelmény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4. Korlátozó tényező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5. A használt fogalmak definició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II. Tulajdonsága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1. Egyértelmű, pontos, telj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2. Rövid, tömör, formalizá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3. Szemléletes, érthet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pecifikálá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III. Specifikációs eszközö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1. Szöveges leírá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2. Matematikai megadá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Fogalma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Állapottér: értékhalmazok direkt szorzata — A=BxCx...x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Állapot: az állapottér egy pont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Változó: az állapottér projekciója — egy koordiná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Feladat: 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x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Program: állapotsorozat (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AxA**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Programfüggvény: A 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A (illetve 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AxA) (véges futásokr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egoldás: a P program (p programfüggvénnyel) megoldja az F feladatot, ha DF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DP és 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DF: p(a)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F(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lőfeltétel, utófeltétel, leggyengébb előfeltétel: ef 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lf(P,uf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Példa: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(x</a:t>
            </a:r>
            <a:r>
              <a:rPr b="0" lang="en-US" sz="4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+y</a:t>
            </a:r>
            <a:r>
              <a:rPr b="0" lang="en-US" sz="4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= z</a:t>
            </a:r>
            <a:r>
              <a:rPr b="0" lang="en-US" sz="4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1. Be: X,Y,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L:=(X</a:t>
            </a:r>
            <a:r>
              <a:rPr b="1" lang="hu-HU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+Y</a:t>
            </a:r>
            <a:r>
              <a:rPr b="1" lang="hu-HU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-Z</a:t>
            </a:r>
            <a:r>
              <a:rPr b="1" lang="hu-HU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Ki: 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2. Be: X,Y,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XX:=X</a:t>
            </a:r>
            <a:r>
              <a:rPr b="1" lang="hu-HU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: YY:=Y</a:t>
            </a:r>
            <a:r>
              <a:rPr b="1" lang="hu-HU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: ZZ:=Z</a:t>
            </a:r>
            <a:r>
              <a:rPr b="1" lang="hu-HU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L:=XX+YY-Z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Ki: 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x</a:t>
            </a:r>
            <a:r>
              <a:rPr b="1" lang="hu-HU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+bx+c=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szöveges specifikáci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bemenet-kimenet leírá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értékhalmaz (a=0 lehet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fogalmak: megoldá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bemenet változatlanság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nemdeterminisztikusság (adjunk meg egy megoldást!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V. A specifikáció (programfüggvény) és az algoritmikus szerkezet kapcsolat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00000" y="1743120"/>
            <a:ext cx="741708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5T07:25:32Z</dcterms:created>
  <dc:creator>Nagymáté Péter</dc:creator>
  <dc:description/>
  <dc:language>en-US</dc:language>
  <cp:lastModifiedBy>Nagymáté Péter</cp:lastModifiedBy>
  <dcterms:modified xsi:type="dcterms:W3CDTF">2004-03-25T09:26:33Z</dcterms:modified>
  <cp:revision>24</cp:revision>
  <dc:subject/>
  <dc:title>Bevezetés a programozásba</dc:title>
</cp:coreProperties>
</file>